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2EB-93AD-4005-827E-5B403616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96F-211B-428D-B94F-DFECEA9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F00-A19A-4E3E-8BC8-0D38A81D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CFA-5535-49FF-9B62-2F6EEBD5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0E3-B4E8-44B6-A2E2-BB04368F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81E-521B-467B-BE36-3885ACE7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6FF-741D-417A-BD3F-4471F3AA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6CB-DF45-43CC-AB5F-DAB190C7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00E-C92F-4AEE-A706-4C2FD17E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0C0-DC18-41B3-B763-DE3BF2F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45E-9ABD-4421-82E6-6A2026D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79F-CFAE-4AF8-ABC0-56ECB51A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3931-1AA7-4197-B471-4C620FBB8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structing an Assistive Technology Toolkit for Young Children</a:t>
            </a:r>
            <a:br>
              <a:rPr sz="3600"/>
            </a:br>
            <a:br>
              <a:rPr sz="3600"/>
            </a:br>
            <a:r>
              <a:rPr b="0" lang="en-US" sz="3000" spc="-1" strike="noStrike">
                <a:solidFill>
                  <a:srgbClr val="ccffff"/>
                </a:solidFill>
                <a:latin typeface="Arial"/>
              </a:rPr>
              <a:t>Sharon Judge</a:t>
            </a:r>
            <a:br>
              <a:rPr sz="3000"/>
            </a:br>
            <a:r>
              <a:rPr b="0" lang="en-US" sz="3000" spc="-1" strike="noStrike">
                <a:solidFill>
                  <a:srgbClr val="ccffff"/>
                </a:solidFill>
                <a:latin typeface="Arial"/>
              </a:rPr>
              <a:t>Old Dominion University</a:t>
            </a:r>
            <a:br>
              <a:rPr sz="3000"/>
            </a:b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Picture of an academic workstation. In this picture a laptop and Intellikeys are shown with two children engaged in learning."/>
          <p:cNvPicPr/>
          <p:nvPr/>
        </p:nvPicPr>
        <p:blipFill>
          <a:blip r:embed="rId1"/>
          <a:stretch/>
        </p:blipFill>
        <p:spPr>
          <a:xfrm>
            <a:off x="5181480" y="3886200"/>
            <a:ext cx="3181320" cy="2678040"/>
          </a:xfrm>
          <a:prstGeom prst="rect">
            <a:avLst/>
          </a:prstGeom>
          <a:ln w="57240">
            <a:solidFill>
              <a:srgbClr val="d1b4c8"/>
            </a:solidFill>
            <a:miter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>
            <a:lum bright="12000"/>
          </a:blip>
          <a:srcRect l="7760" t="16205" r="12490" b="16205"/>
          <a:stretch/>
        </p:blipFill>
        <p:spPr>
          <a:xfrm>
            <a:off x="587520" y="4267080"/>
            <a:ext cx="3298680" cy="2097360"/>
          </a:xfrm>
          <a:prstGeom prst="rect">
            <a:avLst/>
          </a:prstGeom>
          <a:ln w="38160">
            <a:solidFill>
              <a:srgbClr val="7e9ce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ighted Produc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ed v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P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ed Be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acle b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pic_ready.gif"/>
          <p:cNvPicPr/>
          <p:nvPr/>
        </p:nvPicPr>
        <p:blipFill>
          <a:blip r:embed="rId1"/>
          <a:stretch/>
        </p:blipFill>
        <p:spPr>
          <a:xfrm>
            <a:off x="6248520" y="457200"/>
            <a:ext cx="2438280" cy="242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tfweightedvests-thumb-01.jpg"/>
          <p:cNvPicPr/>
          <p:nvPr/>
        </p:nvPicPr>
        <p:blipFill>
          <a:blip r:embed="rId2"/>
          <a:stretch/>
        </p:blipFill>
        <p:spPr>
          <a:xfrm>
            <a:off x="5943600" y="358128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BeltMainMB.jpg"/>
          <p:cNvPicPr/>
          <p:nvPr/>
        </p:nvPicPr>
        <p:blipFill>
          <a:blip r:embed="rId3"/>
          <a:srcRect l="0" t="0" r="0" b="52539"/>
          <a:stretch/>
        </p:blipFill>
        <p:spPr>
          <a:xfrm>
            <a:off x="893880" y="4875120"/>
            <a:ext cx="36781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munication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ing  the learning environment is more than just a physical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tioners echo the importanc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both practical and 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Content Placeholder 4" descr="images.jpg"/>
          <p:cNvPicPr/>
          <p:nvPr/>
        </p:nvPicPr>
        <p:blipFill>
          <a:blip r:embed="rId1"/>
          <a:stretch/>
        </p:blipFill>
        <p:spPr>
          <a:xfrm>
            <a:off x="6858000" y="4114800"/>
            <a:ext cx="1841400" cy="2286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77" name="Picture 2" descr=""/>
          <p:cNvPicPr/>
          <p:nvPr/>
        </p:nvPicPr>
        <p:blipFill>
          <a:blip r:embed="rId2"/>
          <a:srcRect l="0" t="0" r="17188" b="6251"/>
          <a:stretch/>
        </p:blipFill>
        <p:spPr>
          <a:xfrm>
            <a:off x="4419720" y="1295280"/>
            <a:ext cx="3047760" cy="2587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using Techn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activ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sup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Content Placeholder 10" descr="whatsn1.jpg"/>
          <p:cNvPicPr/>
          <p:nvPr/>
        </p:nvPicPr>
        <p:blipFill>
          <a:blip r:embed="rId1"/>
          <a:stretch/>
        </p:blipFill>
        <p:spPr>
          <a:xfrm>
            <a:off x="6019920" y="1523880"/>
            <a:ext cx="1249200" cy="2670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1" name="Picture 11" descr="schedule.gif"/>
          <p:cNvPicPr/>
          <p:nvPr/>
        </p:nvPicPr>
        <p:blipFill>
          <a:blip r:embed="rId2"/>
          <a:stretch/>
        </p:blipFill>
        <p:spPr>
          <a:xfrm>
            <a:off x="4876920" y="4876920"/>
            <a:ext cx="3676680" cy="1552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isual Communic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Representation provides support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ory memory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ory processing sp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eng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day at school.jpg"/>
          <p:cNvPicPr/>
          <p:nvPr/>
        </p:nvPicPr>
        <p:blipFill>
          <a:blip r:embed="rId1"/>
          <a:stretch/>
        </p:blipFill>
        <p:spPr>
          <a:xfrm>
            <a:off x="5715000" y="1447920"/>
            <a:ext cx="1371600" cy="1833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85" name="Picture 5" descr="choice-small-large.jpg"/>
          <p:cNvPicPr/>
          <p:nvPr/>
        </p:nvPicPr>
        <p:blipFill>
          <a:blip r:embed="rId2"/>
          <a:stretch/>
        </p:blipFill>
        <p:spPr>
          <a:xfrm>
            <a:off x="4572000" y="3581280"/>
            <a:ext cx="4024440" cy="28530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earning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ntial for development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participation in learning, not just social,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both commercial or adjusted for use with minor adap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%7B03431600-1ADA-42C7-8E5F-67191B550FE2%7D_WEB.jpg"/>
          <p:cNvPicPr/>
          <p:nvPr/>
        </p:nvPicPr>
        <p:blipFill>
          <a:blip r:embed="rId1"/>
          <a:stretch/>
        </p:blipFill>
        <p:spPr>
          <a:xfrm>
            <a:off x="3149640" y="4343400"/>
            <a:ext cx="2717640" cy="20383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ing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ed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or engagement and inter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epetition with story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s fl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page5"/>
          <p:cNvPicPr/>
          <p:nvPr/>
        </p:nvPicPr>
        <p:blipFill>
          <a:blip r:embed="rId1"/>
          <a:stretch/>
        </p:blipFill>
        <p:spPr>
          <a:xfrm>
            <a:off x="5638680" y="1295280"/>
            <a:ext cx="1943280" cy="25909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160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witch Activated Toy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attery operated toys can be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ed to be used with a variety of switches based on the child’s 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ters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with highly reactive to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Content Placeholder 6" descr="switch_comp3.jpg"/>
          <p:cNvPicPr/>
          <p:nvPr/>
        </p:nvPicPr>
        <p:blipFill>
          <a:blip r:embed="rId1"/>
          <a:stretch/>
        </p:blipFill>
        <p:spPr>
          <a:xfrm>
            <a:off x="4648320" y="1828800"/>
            <a:ext cx="2381040" cy="17906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96" name="Picture 7" descr="switch activation.jpg"/>
          <p:cNvPicPr/>
          <p:nvPr/>
        </p:nvPicPr>
        <p:blipFill>
          <a:blip r:embed="rId2"/>
          <a:stretch/>
        </p:blipFill>
        <p:spPr>
          <a:xfrm>
            <a:off x="5867280" y="4114800"/>
            <a:ext cx="2362320" cy="18860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ccess to Compu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motiv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and cognitive abilities must b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 scre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keybo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touch screen.jpg"/>
          <p:cNvPicPr/>
          <p:nvPr/>
        </p:nvPicPr>
        <p:blipFill>
          <a:blip r:embed="rId1"/>
          <a:stretch/>
        </p:blipFill>
        <p:spPr>
          <a:xfrm>
            <a:off x="4038480" y="4495680"/>
            <a:ext cx="2633760" cy="19861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0" name="Picture 4" descr="C:\Users\Owner\Pictures\intellitools picture peer academics.gif"/>
          <p:cNvPicPr/>
          <p:nvPr/>
        </p:nvPicPr>
        <p:blipFill>
          <a:blip r:embed="rId2"/>
          <a:stretch/>
        </p:blipFill>
        <p:spPr>
          <a:xfrm>
            <a:off x="5867280" y="1219320"/>
            <a:ext cx="2667240" cy="27874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arious Switch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touch 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d su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tory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sw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cer sw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GHZHCAF132LKCA9Y5B9JCA0YFEP1CAR1ZAEBCAXW0PUBCAZ63UN7CAXOSEFRCA1VECQ2CAZ3J1K0CAOHG5B5CAW7B80JCAZ46AJDCAZ274LLCAA70YOVCAN1JWL5CA5H27GOCANOTQUMCA10Q0D0CA9Q45PE.jpg"/>
          <p:cNvPicPr/>
          <p:nvPr/>
        </p:nvPicPr>
        <p:blipFill>
          <a:blip r:embed="rId1"/>
          <a:stretch/>
        </p:blipFill>
        <p:spPr>
          <a:xfrm>
            <a:off x="6934320" y="3124080"/>
            <a:ext cx="1285920" cy="128592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4" name="Picture 11" descr="325WCAQN3HXWCA9PZJC3CAOBCD2YCAC3QWXXCAUMX9G9CAE6GMCRCAXEK7L5CAQPEAFOCA97YE3PCALBOR4RCAHKNYNBCAA1XENXCAXX4QESCAG6V11PCADRHR0DCA8QPMXQCA6XL2MTCATGV4BMCATWEBA0.jpg"/>
          <p:cNvPicPr/>
          <p:nvPr/>
        </p:nvPicPr>
        <p:blipFill>
          <a:blip r:embed="rId2"/>
          <a:stretch/>
        </p:blipFill>
        <p:spPr>
          <a:xfrm>
            <a:off x="4267080" y="1447920"/>
            <a:ext cx="1814760" cy="15825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5" name="Picture 2" descr="http://enablingdevices.com/images/products/standard/a24eb604-bc38-43f4-9745-7fb1477b8f65.jpg"/>
          <p:cNvPicPr/>
          <p:nvPr/>
        </p:nvPicPr>
        <p:blipFill>
          <a:blip r:embed="rId3"/>
          <a:stretch/>
        </p:blipFill>
        <p:spPr>
          <a:xfrm>
            <a:off x="6858000" y="914400"/>
            <a:ext cx="1219320" cy="1523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6" name="Picture 4" descr="http://enablingdevices.com/images/products/standard/8ea64497-226e-4ab1-87fe-e8c7abb0b753.jpg"/>
          <p:cNvPicPr/>
          <p:nvPr/>
        </p:nvPicPr>
        <p:blipFill>
          <a:blip r:embed="rId4"/>
          <a:stretch/>
        </p:blipFill>
        <p:spPr>
          <a:xfrm>
            <a:off x="4724280" y="3581280"/>
            <a:ext cx="1219320" cy="152424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107" name="Picture 6" descr="http://enablingdevices.com/images/products/standard/63eb03e4-29e3-4888-8235-367f25ac22a7.jpg"/>
          <p:cNvPicPr/>
          <p:nvPr/>
        </p:nvPicPr>
        <p:blipFill>
          <a:blip r:embed="rId5"/>
          <a:stretch/>
        </p:blipFill>
        <p:spPr>
          <a:xfrm>
            <a:off x="6248520" y="4876920"/>
            <a:ext cx="1904760" cy="15238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of Effectivene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children immediate access to meaningfu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ay to get AT into the hands of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essential tools that would be accessible for use with the instructional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physical and social i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llenges to Using 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AT training at the preservic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s have inadequate knowledge and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ing equipment and related services in timely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of professionals in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cordless switch.jpg"/>
          <p:cNvPicPr/>
          <p:nvPr/>
        </p:nvPicPr>
        <p:blipFill>
          <a:blip r:embed="rId1"/>
          <a:stretch/>
        </p:blipFill>
        <p:spPr>
          <a:xfrm>
            <a:off x="6553080" y="4495680"/>
            <a:ext cx="21988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bell, P. H., Milbourne, S., Dugan, L. M., &amp; Wilcox, M. J. (2006). A review of evidence on practices for teaching young children to use assistive technology device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pics in Early Childhood Special Education, 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, 3-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gan, L. M., Campbell, P. H., &amp; Wilcox, M. J. (2006). Making decisions about assistive technology with infants and toddler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pics in Early Childhood Special Education, 2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, 25-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, S. (2006). Constructing an assistive technology toolkit for young children: Views from the field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ournal of Special Education Technology, 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), 17-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, S., Floyd, K., &amp; Jeffs, T. (2008). Using an assistive technology toolkit to promote inclusion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arly Childhood Education Journal, 36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1-1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avorite Lin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box Tools (2009). Available on line http://www.fraser.org/products/Eye_Bo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tt, S.G. &amp; Goetz, A. (2000). Playing with Switches. Available online http://letsplay.buffalo.edu/products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ion Mountain Technology. (2009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TTIE kit for little ki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Retrieved March 26, 2009 , from http://www.onionmountaintech.com/category.php?cat=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Best Practices in  Early Childhood (2009). Available online http://www.wiu.edu/thecenter/onlineworkshops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s ‘n Tech (2009). Available online http://www.asu.edu/clas/t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T Toolkit Approac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active strategy that equips each classroom with technolog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following an individual child, AT tools are available as needed to support many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pping classrooms with an assortment of tools affords seamless approach to technology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04920" y="12193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hould be included in an AT Toolkit for Young Childr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C:\Documents and Settings\SJudge\Local Settings\Temporary Internet Files\Content.IE5\5SSHEMOK\MCj04326320000[1].png"/>
          <p:cNvPicPr/>
          <p:nvPr/>
        </p:nvPicPr>
        <p:blipFill>
          <a:blip r:embed="rId1"/>
          <a:stretch/>
        </p:blipFill>
        <p:spPr>
          <a:xfrm>
            <a:off x="2590920" y="28195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ggested AT Toolkit It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ents rated on 5-point Likert scale (1 = never; 5 = always) the usefulness of 16 AT tools for communication, 11 AT tools for movement, and 22 AT tools for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both low- and high-technology devices we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C:\Documents and Settings\SJudge\Local Settings\Temporary Internet Files\Content.IE5\5SSHEMOK\MPj04386800000[1].jpg"/>
          <p:cNvPicPr/>
          <p:nvPr/>
        </p:nvPicPr>
        <p:blipFill>
          <a:blip r:embed="rId1"/>
          <a:stretch/>
        </p:blipFill>
        <p:spPr>
          <a:xfrm>
            <a:off x="5791320" y="47242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p 10 Devices Rated as “Always Useful”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447920"/>
          <a:ext cx="8229600" cy="502920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sual Schedule, Calendar, Lis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1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Communication Symb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ardmaker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ft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3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uch Screen for Compu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Symbol Display Book/Bo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ards with Objects, Pictures, Symbo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1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aptive S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itioning Devi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ture This Soft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aptive Keyboa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3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vement and Sensory Too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oning Devices (sitting, standing, etc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Equi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ighted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rifton chair.jpg"/>
          <p:cNvPicPr/>
          <p:nvPr/>
        </p:nvPicPr>
        <p:blipFill>
          <a:blip r:embed="rId1"/>
          <a:stretch/>
        </p:blipFill>
        <p:spPr>
          <a:xfrm>
            <a:off x="5715000" y="2624040"/>
            <a:ext cx="27338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sitioning Aid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n ba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ls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bile Stan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ne Stan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dely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bolsters.jpg"/>
          <p:cNvPicPr/>
          <p:nvPr/>
        </p:nvPicPr>
        <p:blipFill>
          <a:blip r:embed="rId1"/>
          <a:stretch/>
        </p:blipFill>
        <p:spPr>
          <a:xfrm>
            <a:off x="5562720" y="914400"/>
            <a:ext cx="2209680" cy="18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wedges.jpg"/>
          <p:cNvPicPr/>
          <p:nvPr/>
        </p:nvPicPr>
        <p:blipFill>
          <a:blip r:embed="rId2"/>
          <a:stretch/>
        </p:blipFill>
        <p:spPr>
          <a:xfrm>
            <a:off x="5029200" y="3733920"/>
            <a:ext cx="3081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ptive Equip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sea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aptive tables and chai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corner chair.jpg"/>
          <p:cNvPicPr/>
          <p:nvPr/>
        </p:nvPicPr>
        <p:blipFill>
          <a:blip r:embed="rId1"/>
          <a:stretch/>
        </p:blipFill>
        <p:spPr>
          <a:xfrm>
            <a:off x="1066680" y="3124080"/>
            <a:ext cx="2819520" cy="318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lip in one chair.jpg"/>
          <p:cNvPicPr/>
          <p:nvPr/>
        </p:nvPicPr>
        <p:blipFill>
          <a:blip r:embed="rId2"/>
          <a:srcRect l="0" t="0" r="0" b="15003"/>
          <a:stretch/>
        </p:blipFill>
        <p:spPr>
          <a:xfrm>
            <a:off x="5899320" y="3048120"/>
            <a:ext cx="27334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7:43:29Z</dcterms:created>
  <dc:creator>CEHHS User</dc:creator>
  <dc:description/>
  <dc:language>en-US</dc:language>
  <cp:lastModifiedBy>SJudge</cp:lastModifiedBy>
  <dcterms:modified xsi:type="dcterms:W3CDTF">2009-03-26T18:43:31Z</dcterms:modified>
  <cp:revision>119</cp:revision>
  <dc:subject/>
  <dc:title>Closing the Digital Divide: An Update from the Early Childhood Longitudinal Study</dc:title>
</cp:coreProperties>
</file>